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6C70-D885-45D6-8D2B-10D11F3C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FB3B-180E-423E-98F0-BF20E642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015A-4250-437F-8934-94CF65F0A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F200-C305-413B-BFE2-92FDF395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7B71-51C3-462B-AF9D-07A71FAD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FCB0-3623-4351-836F-80505F18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91B2-C549-49DF-8E33-AB808459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3D3A-75E3-4EEC-BA1E-09ED4D59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58B9-3003-4410-B8D4-0B70005D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4A16-CB0B-48DA-B7AC-93538DBF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3689-8A2C-4409-8C31-843F5011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92CC-7A8B-47F1-944F-13153156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FB74-D1A7-44DA-BB93-07ED3B4B2B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831960" y="195120"/>
            <a:ext cx="10591560" cy="59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ЛИЗ  И  РАЗБОР  ЗАДАНИЙ ОГЭ ПО БИОЛОГИИ                                             В 2018-2019 ГОДУ. РАССМОТРЕНИЕ  ДЕМОНСТРАЦИОННОГО ВАРИАНТА ОГЭ 2020 ГОДА ПО БИОЛОГИИ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Измененные зада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rcRect l="49491" t="33773" r="9463" b="36615"/>
          <a:stretch/>
        </p:blipFill>
        <p:spPr>
          <a:xfrm>
            <a:off x="1685880" y="1733400"/>
            <a:ext cx="842004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959440" y="6162840"/>
          <a:ext cx="380880" cy="75960"/>
        </p:xfrm>
        <a:graphic>
          <a:graphicData uri="http://schemas.openxmlformats.org/drawingml/2006/table">
            <a:tbl>
              <a:tblPr/>
              <a:tblGrid>
                <a:gridCol w="190440"/>
                <a:gridCol w="190440"/>
              </a:tblGrid>
              <a:tr h="25200">
                <a:tc>
                  <a:txBody>
                    <a:bodyPr lIns="4320" rIns="4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ъект</a:t>
                      </a:r>
                      <a:endParaRPr b="0" lang="en-US" sz="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цесс</a:t>
                      </a:r>
                      <a:endParaRPr b="0" lang="en-US" sz="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5560">
                <a:tc>
                  <a:txBody>
                    <a:bodyPr lIns="4320" rIns="4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игота</a:t>
                      </a:r>
                      <a:endParaRPr b="0" lang="en-US" sz="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обление</a:t>
                      </a:r>
                      <a:endParaRPr b="0" lang="en-US" sz="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5200">
                <a:tc>
                  <a:txBody>
                    <a:bodyPr lIns="4320" rIns="4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…</a:t>
                      </a:r>
                      <a:r>
                        <a:rPr b="1" lang="ru-RU" sz="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.</a:t>
                      </a:r>
                      <a:endParaRPr b="0" lang="en-US" sz="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 заростка</a:t>
                      </a:r>
                      <a:endParaRPr b="0" lang="en-US" sz="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7720" y="811080"/>
            <a:ext cx="14659200" cy="563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21. Какое понятие следует вписать на место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 пропуска в таблицу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1 – гамета       2 – циста       3 – спора       4 – почка</a:t>
            </a:r>
            <a:br>
              <a:rPr sz="4000"/>
            </a:br>
            <a:r>
              <a:rPr b="0" lang="ru-RU" sz="4000" spc="-1" strike="noStrike">
                <a:solidFill>
                  <a:srgbClr val="1116f7"/>
                </a:solidFill>
                <a:latin typeface="Calibri"/>
              </a:rPr>
              <a:t>(в демоверсии 2020 задание № 18)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33640" y="2411280"/>
          <a:ext cx="9718560" cy="2443320"/>
        </p:xfrm>
        <a:graphic>
          <a:graphicData uri="http://schemas.openxmlformats.org/drawingml/2006/table">
            <a:tbl>
              <a:tblPr/>
              <a:tblGrid>
                <a:gridCol w="4859280"/>
                <a:gridCol w="4859280"/>
              </a:tblGrid>
              <a:tr h="81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ъек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цес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814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игот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обл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814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…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 зарост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6080" y="1120320"/>
            <a:ext cx="10917000" cy="491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2. Верны ли суждения о процессах жизнедеятельности растений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. Все органы  растений дышат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. Органические вещества в процессе дыхания синтезируются с поглощением световой энергии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) верно только  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) верно только  Б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) верны оба суждени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) оба суждения неверны</a:t>
            </a:r>
            <a:br>
              <a:rPr sz="4000"/>
            </a:br>
            <a:r>
              <a:rPr b="1" lang="ru-RU" sz="4000" spc="-1" strike="noStrike">
                <a:solidFill>
                  <a:srgbClr val="1116f7"/>
                </a:solidFill>
                <a:latin typeface="Calibri"/>
              </a:rPr>
              <a:t>(в демоверсии 2020 задание № 19)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 rot="10800000">
            <a:off x="754920" y="6176160"/>
            <a:ext cx="10598040" cy="49320"/>
          </a:xfrm>
          <a:prstGeom prst="rect">
            <a:avLst/>
          </a:prstGeom>
          <a:noFill/>
          <a:ln w="0">
            <a:noFill/>
          </a:ln>
        </p:spPr>
        <p:txBody>
          <a:bodyPr tIns="3600" bIns="3600"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8600" y="404280"/>
            <a:ext cx="10621800" cy="582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блок заданий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овышенного уровня сложности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ходят задания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с 23 по 29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ключительно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Хуже всего справились с выполнением заданий   № 23  (умение проводить множественный выбор)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№ 26  (проверяет умение определять последовательности биологических процессов,  явлений, объектов)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№ 27 (проверяет умение включать в биологический текст пропущенные термины и понятия из числа предложенных).  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 </a:t>
            </a:r>
            <a:r>
              <a:rPr b="1" lang="ru-RU" sz="4000" spc="-1" strike="noStrike">
                <a:solidFill>
                  <a:srgbClr val="1116f7"/>
                </a:solidFill>
                <a:latin typeface="Calibri Light"/>
              </a:rPr>
              <a:t>(в демоверсии 2020 с 20 по 26 включительно)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838080" y="6734160"/>
            <a:ext cx="1080936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9440" y="1001520"/>
            <a:ext cx="10883880" cy="50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3. Какие функции регулирует симпатический отдел вегетативной нервной системы? Выбрать три верных ответа из шести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 – ослабление сердечных сокращений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 – усиление желудочного  сокоотделени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 – усиление сердечных сокращений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 – ослабление волнообразных  движений  кишечни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 – уменьшение потоотделени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 – учащение дыхательных движений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3520" y="6091200"/>
            <a:ext cx="10820160" cy="85680"/>
          </a:xfrm>
          <a:prstGeom prst="rect">
            <a:avLst/>
          </a:prstGeom>
          <a:noFill/>
          <a:ln w="0">
            <a:noFill/>
          </a:ln>
        </p:spPr>
        <p:txBody>
          <a:bodyPr tIns="39960" bIns="39960"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3200" y="858960"/>
            <a:ext cx="11385720" cy="52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6. Расположить в правильном порядке пункты инструкции подсчета пульса до и после дозированной нагрузки. Записать соответствующую последовательность цифр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– сделать 10 приседаний и снова подсчитать число ударов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– приложить 2 пальца правой  руки на внутреннюю сторону запястья левой  ру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– освободить от одежды запястье левой руки и нижнюю часть предплечь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 – после 5 минут отдыха в положении сидя подсчитать пульс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 – подсчитать число ударов пульса за 1 минуту в спокойном состояни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 – слегка надавить пальцами до ощущения биения сердц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1116f7"/>
                </a:solidFill>
                <a:latin typeface="Calibri Light"/>
              </a:rPr>
              <a:t>(в демоверсии 2020 задание № 24)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 rot="10800000">
            <a:off x="668160" y="6176880"/>
            <a:ext cx="106855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85640" y="469440"/>
            <a:ext cx="11290320" cy="589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7. Вставить пропущенные термины в текст «Пластиды»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Пластид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В растительных клетках можно  наблюдать разнообразные по форме и окраске пластиды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гочисленные зеленые пластиды - … (А) обеспечивают процесс … (Б) за счет наличия в их составе пигмента … (В). Кроме того, в клетках можно встретить пластиды, содержащие красные, оранжевые или желтые пигменты. Такие пластиды называются …(Г)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–  хромопласт      2 – хлорофилл             3 – лейкопласт                                    4 – фотосинтез        5 – вакуоль                   6 – дыхание                     7 – хлоропласт        8 - каротин</a:t>
            </a:r>
            <a:br>
              <a:rPr sz="3200"/>
            </a:br>
            <a:r>
              <a:rPr b="1" lang="ru-RU" sz="3200" spc="-1" strike="noStrike">
                <a:solidFill>
                  <a:srgbClr val="1116f7"/>
                </a:solidFill>
                <a:latin typeface="Calibri"/>
              </a:rPr>
              <a:t>(в демоверсии 2020 задание № 25)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8080" y="6130800"/>
            <a:ext cx="105156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 Light"/>
              </a:rPr>
              <a:t>Часть 2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rcRect l="49928" t="35847" r="10119" b="46654"/>
          <a:stretch/>
        </p:blipFill>
        <p:spPr>
          <a:xfrm>
            <a:off x="582480" y="1828800"/>
            <a:ext cx="111492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68160" y="731520"/>
            <a:ext cx="10956960" cy="56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9. Текст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«Приматы и другие млекопитающие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просы к тексту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1. Каковы особенности строения подушечек у приматов?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Ответ: сросшиеся подушечки на пальцах)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2. Каково назначение передних конечностей у других млекопитающих?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Ответ: органы передвижения)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3. Каковы особенности строения органов чувств у приматов?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Ответ: слабое обоняние и стереоскопическое цветовое зрение) </a:t>
            </a:r>
            <a:r>
              <a:rPr b="1" lang="ru-RU" sz="3200" spc="-1" strike="noStrike">
                <a:solidFill>
                  <a:srgbClr val="1116f7"/>
                </a:solidFill>
                <a:latin typeface="Calibri"/>
              </a:rPr>
              <a:t>(в демоверсии 2020 задание № 28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 rot="10800000">
            <a:off x="1024920" y="6176160"/>
            <a:ext cx="1032804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41440" y="365040"/>
            <a:ext cx="10812240" cy="571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9. Текст «Нахлебничество,  квартиранство и кооперация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просы к тексту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1. Какую пользу извлекает организм-квартирант от хозяина?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Ответ:  место для обитания)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2. Каков характер отношений между организмами в нахлебничестве?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Ответ:  выгодный для одного и безразличный для другого)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3. Какое преимущество получает рак-отшельник в кооперации с актинией?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Ответ:  актиния защищает рака-отшельника от более крупных хищников)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"/>
          <p:cNvSpPr txBox="1"/>
          <p:nvPr/>
        </p:nvSpPr>
        <p:spPr>
          <a:xfrm rot="10800000">
            <a:off x="668160" y="6176880"/>
            <a:ext cx="10685520" cy="1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048040" y="3301920"/>
          <a:ext cx="8285040" cy="2832120"/>
        </p:xfrm>
        <a:graphic>
          <a:graphicData uri="http://schemas.openxmlformats.org/drawingml/2006/table">
            <a:tbl>
              <a:tblPr/>
              <a:tblGrid>
                <a:gridCol w="1996920"/>
                <a:gridCol w="1073160"/>
                <a:gridCol w="1073160"/>
                <a:gridCol w="1073160"/>
                <a:gridCol w="1071360"/>
                <a:gridCol w="1073160"/>
                <a:gridCol w="924120"/>
              </a:tblGrid>
              <a:tr h="47160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7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9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71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учили «2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71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учили «3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73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учили «4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71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учили «5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43" name="Rectangle 1"/>
          <p:cNvSpPr/>
          <p:nvPr/>
        </p:nvSpPr>
        <p:spPr>
          <a:xfrm>
            <a:off x="517680" y="369720"/>
            <a:ext cx="1068228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 протяжении последних лет биология остается  одним из наиболее востребованных экзаменом  выпускников основного общего образования.  Количество участников ОГЭ по биологии в 2019 году по сравнению с 2018 годом снизилось на 48 человек (2,7%), в соотношении с 2017 годом – на 354 человека (17%), но остается достаточно высок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Динамика результатов ОГЭ по биологии за 3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1520" y="221760"/>
            <a:ext cx="1089180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9. Текст  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«Эволюция жизни в палеозойскую эру»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просы к тексту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1. Какие геологические процессы способствовали ускорению эволюции в палеозойскую  эру?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(Ответ: образование материков около экватора и создание мелких прибрежных районов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2. Какие эволюционные адаптации  в строении приобрели первые голосеменные растения в сравнении с древними водорослями. Не менее трех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(Ответ:  ткани и органы, независимость размножения от воды, образование семян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3. Каков порядок появления древних позвоночных животных в процессе эволюции?)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(Ответ:  панцирные рыбы – костные рыбы -  кистеперые рыбы  -  земноводные – первые пресмыкающиеся (котилозавры) – современные пресмыкающиеся). </a:t>
            </a:r>
            <a:br>
              <a:rPr sz="2800"/>
            </a:br>
            <a:br>
              <a:rPr sz="2800"/>
            </a:b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 rot="10800000">
            <a:off x="838080" y="6176160"/>
            <a:ext cx="1051560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5360" y="328320"/>
            <a:ext cx="10767960" cy="13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9. Текст   «Паразитические черви»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просы к тексту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1. К какому классу животных относят печёночного сосальщика?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Ответ: сосальщики)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2. Кто является окончательным хозяином бычьего цепня?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Ответ: человек)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3. Какие ещё, кроме указанных в тексте особенностей строения,  связанных с паразитическим образом жизни, существуют у плоских червей?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Ответ:  у ленточных червей отсутствуют кровеносная и пищеварительная системы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 rot="10800000">
            <a:off x="585000" y="6176880"/>
            <a:ext cx="10767960" cy="1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1127160"/>
            <a:ext cx="10418760" cy="476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блок заданий высокого уровня сложности входят три последних задания  экзаменационной работы (№30,31,32)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Средний процент максимально возможного выполнения по этому блоку в регионе составляет 42%, что является хорошим показателем, т.к. в 2018 году он составил только 27%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В ходе выполнения задания № 30 выпускник должен последовательно ответить на 2-3 вопроса на основании статистических данных, представленных в табличной форме.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 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38080" y="5893920"/>
            <a:ext cx="10515600" cy="2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47800" y="53467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116f7"/>
                </a:solidFill>
                <a:latin typeface="Calibri Light"/>
              </a:rPr>
              <a:t>(в демоверсии 2020 задание № 29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7" name="Объект 3" descr=""/>
          <p:cNvPicPr/>
          <p:nvPr/>
        </p:nvPicPr>
        <p:blipFill>
          <a:blip r:embed="rId1"/>
          <a:stretch/>
        </p:blipFill>
        <p:spPr>
          <a:xfrm>
            <a:off x="274680" y="528480"/>
            <a:ext cx="6207120" cy="49309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"/>
          <p:cNvPicPr/>
          <p:nvPr/>
        </p:nvPicPr>
        <p:blipFill>
          <a:blip r:embed="rId2"/>
          <a:stretch/>
        </p:blipFill>
        <p:spPr>
          <a:xfrm>
            <a:off x="6608880" y="1419120"/>
            <a:ext cx="53528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1440" y="5799600"/>
            <a:ext cx="1081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41440" y="6099120"/>
            <a:ext cx="10812240" cy="77760"/>
          </a:xfrm>
          <a:prstGeom prst="rect">
            <a:avLst/>
          </a:prstGeom>
          <a:noFill/>
          <a:ln w="0">
            <a:noFill/>
          </a:ln>
        </p:spPr>
        <p:txBody>
          <a:bodyPr tIns="32040" bIns="32040"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6" descr=""/>
          <p:cNvPicPr/>
          <p:nvPr/>
        </p:nvPicPr>
        <p:blipFill>
          <a:blip r:embed="rId1"/>
          <a:stretch/>
        </p:blipFill>
        <p:spPr>
          <a:xfrm>
            <a:off x="2736720" y="22320"/>
            <a:ext cx="6291360" cy="6835680"/>
          </a:xfrm>
          <a:prstGeom prst="rect">
            <a:avLst/>
          </a:prstGeom>
          <a:ln w="0">
            <a:noFill/>
          </a:ln>
        </p:spPr>
      </p:pic>
      <p:sp>
        <p:nvSpPr>
          <p:cNvPr id="92" name="TextBox 7"/>
          <p:cNvSpPr/>
          <p:nvPr/>
        </p:nvSpPr>
        <p:spPr>
          <a:xfrm>
            <a:off x="2281320" y="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3" descr=""/>
          <p:cNvPicPr/>
          <p:nvPr/>
        </p:nvPicPr>
        <p:blipFill>
          <a:blip r:embed="rId1"/>
          <a:stretch/>
        </p:blipFill>
        <p:spPr>
          <a:xfrm>
            <a:off x="420840" y="633240"/>
            <a:ext cx="5879880" cy="44895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7120" y="6390720"/>
            <a:ext cx="98265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 rot="10800000">
            <a:off x="1304280" y="6176880"/>
            <a:ext cx="10048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4" descr=""/>
          <p:cNvPicPr/>
          <p:nvPr/>
        </p:nvPicPr>
        <p:blipFill>
          <a:blip r:embed="rId2"/>
          <a:stretch/>
        </p:blipFill>
        <p:spPr>
          <a:xfrm>
            <a:off x="6595920" y="1103400"/>
            <a:ext cx="5345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9623520" cy="649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8" name="Объект 4" descr=""/>
          <p:cNvPicPr/>
          <p:nvPr/>
        </p:nvPicPr>
        <p:blipFill>
          <a:blip r:embed="rId1"/>
          <a:stretch/>
        </p:blipFill>
        <p:spPr>
          <a:xfrm>
            <a:off x="6095880" y="1571760"/>
            <a:ext cx="5703840" cy="34621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"/>
          <p:cNvPicPr/>
          <p:nvPr/>
        </p:nvPicPr>
        <p:blipFill>
          <a:blip r:embed="rId2"/>
          <a:stretch/>
        </p:blipFill>
        <p:spPr>
          <a:xfrm>
            <a:off x="257040" y="0"/>
            <a:ext cx="554832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01280" y="585360"/>
            <a:ext cx="11194920" cy="559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ние 31 требует от экзаменуемого сформированности умений вычислять энергозатраты при различной физической нагрузке, составлять рацион питания в соответствии с условиями ситуационной задачи.  С  этим заданием учащиеся справляются достаточно  хорошо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В проекте экзамена ОГЭ 2020 г. изменена расчетная задача,  в которой приведены блюда,  более ценные с точки зрения правильного питания.  Расчетная задача дана  с биологическим вопросом. Тем самым было  заменено задание 32,  выполнение которого всегда давало  самые низкие результаты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.  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"/>
          <p:cNvSpPr txBox="1"/>
          <p:nvPr/>
        </p:nvSpPr>
        <p:spPr>
          <a:xfrm rot="10800000">
            <a:off x="838080" y="6176880"/>
            <a:ext cx="10515600" cy="1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3" name="Объект 4" descr=""/>
          <p:cNvPicPr/>
          <p:nvPr/>
        </p:nvPicPr>
        <p:blipFill>
          <a:blip r:embed="rId1"/>
          <a:stretch/>
        </p:blipFill>
        <p:spPr>
          <a:xfrm>
            <a:off x="6372360" y="365040"/>
            <a:ext cx="5532480" cy="61992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3" descr=""/>
          <p:cNvPicPr/>
          <p:nvPr/>
        </p:nvPicPr>
        <p:blipFill>
          <a:blip r:embed="rId2"/>
          <a:stretch/>
        </p:blipFill>
        <p:spPr>
          <a:xfrm>
            <a:off x="493560" y="1825560"/>
            <a:ext cx="560232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9600" y="-728640"/>
            <a:ext cx="11549160" cy="641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</a:t>
            </a: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В понедельник девятиклассник Василий посетил школьную столовую, где ему предложили на обед следующее меню: борщ из свежей капусты с картофелем; два мясных биточка с гарниром из отварных макарон, чай с сахаром и кусочек ржаного хлеба. Используя данные таблиц, ответьте на следующие вопросы.</a:t>
            </a:r>
            <a:br>
              <a:rPr sz="31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)  Какова энергетическая ценность школьного обеда? 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)  Какое еще количество углеводов должно быть в пищевом рационе Василия в этот день, чтобы восполнить суточную потребность, если возраст подростка составляет 14 лет? 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3) Каковы функции углеводов в организме человека? Назовите одну из таких функций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.   </a:t>
            </a: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 rot="10800000">
            <a:off x="838080" y="6176160"/>
            <a:ext cx="10515600" cy="63720"/>
          </a:xfrm>
          <a:prstGeom prst="rect">
            <a:avLst/>
          </a:prstGeom>
          <a:noFill/>
          <a:ln w="0">
            <a:noFill/>
          </a:ln>
        </p:spPr>
        <p:txBody>
          <a:bodyPr tIns="18000" bIns="18000"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98320" y="801360"/>
            <a:ext cx="1075536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изкий процент выполнения заданий базового блока пришелся на зад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№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2, 3, 4, 9, 12, 17, 21, 22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торые проверяют элементы содерж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леточное строение организмо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обенности строения и жизнедеятельности организм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мение определять структуру объект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делять значимые функциональные связи и отношения между частями целого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мение оценивать правильность биологических сужд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90560" y="18363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Находим энергетическую ценность школьного обеда подрост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люда                            Углеводы(г) Энергетич.ценность(кка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рщ  из свежей капусты          11,6              92,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а мясных биточка                   18,6             533,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рнир из отварн.макарон        38,7            218,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ай с сахаром                               14,0              68,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сок ржаного хлеба                   28,1             135,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того:                                             111,1            1048,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)Энергетическая  ценность обеда – 1048,1 ккал или 1048 кка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55760" y="-1009800"/>
          <a:ext cx="9367920" cy="771840"/>
        </p:xfrm>
        <a:graphic>
          <a:graphicData uri="http://schemas.openxmlformats.org/drawingml/2006/table">
            <a:tbl>
              <a:tblPr/>
              <a:tblGrid>
                <a:gridCol w="3122640"/>
                <a:gridCol w="3122640"/>
                <a:gridCol w="3122640"/>
              </a:tblGrid>
              <a:tr h="77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6920" y="102960"/>
            <a:ext cx="10453680" cy="65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росток 14 лет должен получать в сутки 375 г углеводов.  За обед он получил 111,1 г углевод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) Следовательно  ему необходимо дополнительно 263,9  (264г) углеводов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375-111,1=263,9 г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) Функции углеводов в организме подрост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нергетическая (углеводы являются источником энергии для жизнедеятельности организм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  строительная (углеводы входят в состав нуклеиновых кисло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 запасающая (гликоген запасается в печени и скелетных мышцах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 регуляторная (углеводы регулируют осмотическое давление кров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 рецепторная (образуют клеточные рецептор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3200" y="496440"/>
            <a:ext cx="10590120" cy="557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амые низкие результаты выполнения приходятся из года в год на задание №32. Это задание проверяет сформированность умений обосновывать необходимость рационального и здорового  питания, выполнения важнейших гигиенических правил поведения человека в повседневных ситуациях. Вопросы такого уровня требуют от  обучающихся  умение абстрагироваться и выделять главное по сути данного вопроса. </a:t>
            </a:r>
            <a:br>
              <a:rPr sz="3600"/>
            </a:br>
            <a:r>
              <a:rPr b="1" lang="ru-RU" sz="3600" spc="-1" strike="noStrike">
                <a:solidFill>
                  <a:srgbClr val="1116f7"/>
                </a:solidFill>
                <a:latin typeface="Calibri"/>
              </a:rPr>
              <a:t>(В демоверсии 2020 данного задания нет)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 rot="10800000">
            <a:off x="838080" y="6176880"/>
            <a:ext cx="105156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6160" y="365040"/>
            <a:ext cx="1084716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2. В эксперименте подопытное животное кормили только пищей, содержащей  белки   и  не содержащей углеводы. После смерти животного в его печени был обнаружен гликоген. Что такое гликоген? Объясните его происхожде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твет: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1) Гликоген – высокомолекулярное соединение, которое относят к углеводам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2) В процессе обмена веществ в печени животного из белков могут синтезироваться углевод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"/>
          <p:cNvSpPr txBox="1"/>
          <p:nvPr/>
        </p:nvSpPr>
        <p:spPr>
          <a:xfrm rot="10800000">
            <a:off x="914400" y="6176880"/>
            <a:ext cx="104392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0640" y="365040"/>
            <a:ext cx="10733040" cy="581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2.В химический состав клетки человека входят белки, жиры и углеводы. В пище человека должны содержаться эти вещества. Укажите, какие из них могут превращаться друг в друга, а какие нет.</a:t>
            </a:r>
            <a:br>
              <a:rPr sz="3600"/>
            </a:b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Ответ: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1) в организме возможны превращение углеводов в жиры и наоборот, а также белков в жиры и углеводы.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2) Превращение углеводов и жиров в белки невозможно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"/>
          <p:cNvSpPr txBox="1"/>
          <p:nvPr/>
        </p:nvSpPr>
        <p:spPr>
          <a:xfrm rot="10800000">
            <a:off x="838080" y="6176880"/>
            <a:ext cx="105156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7280" y="365040"/>
            <a:ext cx="10706040" cy="595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2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мецкая поговорка гласит: «Хорошо пережёвано - наполовину переварено».  Объяснить ее смысл с позиции физиологии пищеварения. Дать 2 объяснения.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твет: 1) в  ротовой полости пища размельчается, перетирается, увлажняется слюной и превращается в скользкий, легко проглатываемый пищевой комок. Измельчённые частицы пищи легкодоступны пищеварительным ферментам слюны и желудочного сока.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) Сокоотделение в желудке усиливается в момент поступления пищи в ротовую полость, во время ее пережевывания. Выделяемые железами желудка аппетитный желудочный сок облегчает пищеварение в заранее готовом к  этому желудку)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"/>
          <p:cNvSpPr txBox="1"/>
          <p:nvPr/>
        </p:nvSpPr>
        <p:spPr>
          <a:xfrm rot="10800000">
            <a:off x="838080" y="6176160"/>
            <a:ext cx="10515600" cy="55800"/>
          </a:xfrm>
          <a:prstGeom prst="rect">
            <a:avLst/>
          </a:prstGeom>
          <a:noFill/>
          <a:ln w="0">
            <a:noFill/>
          </a:ln>
        </p:spPr>
        <p:txBody>
          <a:bodyPr tIns="10080" bIns="10080"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95440" y="365040"/>
            <a:ext cx="10758240" cy="574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2.Что такое водный баланс? Каким образом он регулируется в организме человек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?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Ответ: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1) Это отношение потребления воды к ее потере организмом.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 2) Центры  регуляции расположены в промежуточном мозге -  гипоталамусе (центре жажды),  который через гипофиз, включая механизмы прямой и обратной связи, настраивает организм на удаление или сохранение воды в организме человека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"/>
          <p:cNvSpPr txBox="1"/>
          <p:nvPr/>
        </p:nvSpPr>
        <p:spPr>
          <a:xfrm rot="10800000">
            <a:off x="931320" y="6176880"/>
            <a:ext cx="10421640" cy="1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28280" y="365040"/>
            <a:ext cx="11052360" cy="513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2.При пищевых отравлениях возникают рвота, боли в животе. Объяснить их значение  для организма.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твет: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1) Рвота – защитная реакция, с помощью которой из организма удаляются вредные для него вещества.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) Боль сигнализирует о нарушении функции организма.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"/>
          <p:cNvSpPr txBox="1"/>
          <p:nvPr/>
        </p:nvSpPr>
        <p:spPr>
          <a:xfrm rot="10800000">
            <a:off x="1073880" y="6176880"/>
            <a:ext cx="10279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68080" y="1447920"/>
            <a:ext cx="11328120" cy="481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КОМЕНДАЦИИ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Обратить особое внимание на такие темы как «Клеточное строение организмов», «Нейрогуморальная регуляция процессов жизнедеятельности», «Транспорт веществ», «Психология и поведение человека», соблюдение санитарно-гигиенических норм и правил здорового образа жизни, на формирование умений оценивать правильность биологических суждений, определять структуру объекта, выделять значимые функциональные связи и отношения между частями целого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 rot="10800000">
            <a:off x="869400" y="6176880"/>
            <a:ext cx="10483560" cy="2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8320" y="364680"/>
            <a:ext cx="10395000" cy="485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Calibri"/>
                <a:ea typeface="Calibri"/>
              </a:rPr>
              <a:t>СПАСИБО ЗА ВНИМАНИЕ!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"/>
          <p:cNvSpPr txBox="1"/>
          <p:nvPr/>
        </p:nvSpPr>
        <p:spPr>
          <a:xfrm rot="10800000">
            <a:off x="957960" y="6176880"/>
            <a:ext cx="10395000" cy="1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00160" y="622440"/>
            <a:ext cx="10196640" cy="571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. Кроме  клеточного ядра хранить и передавать наследственную информацию могу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1) митохондрии и хлоропласты                     2) аппарат Гольджи и вакуол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3) рибосомы и центриоли                               4) лизосомы и ЭПС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 rot="10800000">
            <a:off x="678600" y="6176160"/>
            <a:ext cx="10674360" cy="15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64960" y="364680"/>
            <a:ext cx="10188360" cy="614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. У кого реакция на раздражение осуществляется в форме рефлекса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)  у простейших                                                            2)  у бактерий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)  у  плесневых грибов                                                 4)  у кишечнополостных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 rot="10800000">
            <a:off x="994680" y="6176880"/>
            <a:ext cx="103582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0" y="365040"/>
            <a:ext cx="10590120" cy="564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 rot="10800000">
            <a:off x="837360" y="6152400"/>
            <a:ext cx="10618920" cy="65160"/>
          </a:xfrm>
          <a:prstGeom prst="rect">
            <a:avLst/>
          </a:prstGeom>
          <a:noFill/>
          <a:ln w="0">
            <a:noFill/>
          </a:ln>
        </p:spPr>
        <p:txBody>
          <a:bodyPr tIns="19440" bIns="19440"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1176480" y="954000"/>
            <a:ext cx="1044864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4. Как называется способ вегетативного размножения на рисунк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1) размножение  с   помощью вегетативного побе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2) размножение  с  помощью  листового черен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3) размножение прививк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4) размножение отводк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4" descr=""/>
          <p:cNvPicPr/>
          <p:nvPr/>
        </p:nvPicPr>
        <p:blipFill>
          <a:blip r:embed="rId1"/>
          <a:srcRect l="65884" t="1900" r="2127" b="81319"/>
          <a:stretch/>
        </p:blipFill>
        <p:spPr>
          <a:xfrm>
            <a:off x="9604440" y="1138320"/>
            <a:ext cx="174924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6120" y="1160640"/>
            <a:ext cx="10590120" cy="429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9. Какая железа согласует деятельность эндокринных желез в организме человека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) гипофиз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) щитовидная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) половы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) надпочечни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 rot="10800000">
            <a:off x="838080" y="6176880"/>
            <a:ext cx="105156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7760" y="364680"/>
            <a:ext cx="10645560" cy="595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12. Продолжительность сердечного цикла 0,8 сек.  Сколько секунд будет продолжаться фаза сокращения предсердия, если в одном сердечном цикле 3 фазы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1) 0,1 сек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2) 0,5 сек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3) 0,3 сек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4) 0,7 се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 rot="10800000">
            <a:off x="837360" y="6319080"/>
            <a:ext cx="10526760" cy="88920"/>
          </a:xfrm>
          <a:prstGeom prst="rect">
            <a:avLst/>
          </a:prstGeom>
          <a:noFill/>
          <a:ln w="0">
            <a:noFill/>
          </a:ln>
        </p:spPr>
        <p:txBody>
          <a:bodyPr tIns="43200" bIns="43200"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365040"/>
            <a:ext cx="10598040" cy="581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7. Почему нельзя брать в рот травинки с заливных лугов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) на них могут быть возбудители маляри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) можно заразиться финнами  бычьего  цепн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) на них могут быть цисты печеночного сосальщи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) можно заразиться возбудителем  туберкулез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 rot="10800000">
            <a:off x="977760" y="6176880"/>
            <a:ext cx="103759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06T15:47:06Z</dcterms:created>
  <dc:creator>Света</dc:creator>
  <dc:description/>
  <dc:language>en-US</dc:language>
  <cp:lastModifiedBy>Астахов</cp:lastModifiedBy>
  <dcterms:modified xsi:type="dcterms:W3CDTF">2020-02-03T13:39:44Z</dcterms:modified>
  <cp:revision>36</cp:revision>
  <dc:subject/>
  <dc:title>Презентация PowerPoint</dc:title>
</cp:coreProperties>
</file>